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D2AE-B100-4DFF-B618-2FFE6D29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8E23-049C-4D94-BE6A-AFA15F66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1EC4-AD5C-478E-BC54-9450E0D5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DCE4-DE01-459F-8736-48099292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CFC2-BE6A-48CC-9651-A93A7E64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9BBA-C3C2-4EBF-8C5A-A067BDC1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B7DA-D462-404D-B149-EF3D9351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4257-AA62-4C82-97BC-0DB47F39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4602-80E7-43F4-AF20-2E4EE7C7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9833-02CA-46D5-AF36-009B14BC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D81B-FE75-4C9E-A62B-E42F13DC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769C-B551-4FC6-9FFD-6220B1CF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1920-9686-4364-9C6F-9BB0F227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A2D7-B582-4240-B511-86C38276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A92F-54F3-491E-AD3A-A031E768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1E67-9999-4C9A-A73C-49F776A8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D57C-2F7A-4649-B4BC-A369B382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0882-7052-4C1C-AEF8-809F2BB0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327A9-0DB9-4672-AF53-D4104462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E1CE-5A87-47E1-8FF8-7722AC52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F4DA-BB17-49D8-8E0C-C38BBCC6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A79C-104B-4E6F-86D7-2176CBE8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1DD4-6636-4D79-ABFB-18C178A4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F5B6-F1B9-47F9-8BC2-B86098E2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6CA4-257D-4D13-B9A3-CD5D8F76EE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6EB2-7FAC-40AB-A209-75E33A1F70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40: The Stalemated Seventi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68-198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1972_Electoral_Map"/>
          <p:cNvPicPr/>
          <p:nvPr/>
        </p:nvPicPr>
        <p:blipFill>
          <a:blip r:embed="rId1"/>
          <a:stretch/>
        </p:blipFill>
        <p:spPr>
          <a:xfrm>
            <a:off x="228600" y="762120"/>
            <a:ext cx="874728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tergat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ne 17, 1972- burglary occurred at Democratic headquarters in Washington D.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 men arrested, had electronic bugging equi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ked for Republican Committee for Re-election of the President (CREE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ised millions of dollars using unlawful &amp; unethical me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rty campaign- faked documents, espion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5" descr="watergate21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terg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ral of Nixon’s top administration officials forced to re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iminal obstruction of justice through cover-ups or payments of hush mon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BI connected money found on burglars to a slush fund used by CREE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p of iceberg for corruption under Nix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emy list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rglar stole psychiatric files of Daniel Ellsber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ANd9GcS25-QrlttzSGX1LMxvX78Zy116ogsYt5nE4BuuDBd39MPWFq6L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tergat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ate Watergate Committee- conducted series of televised hearing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hn Dean testifies as to involvement of top officials in White House in cover-up of Watergate (including president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5" descr="ANd9GcRYqQ1XEoCkryCXeVOPrC8SsSlYdFe_JRSfpPTJq4d4jJanPJZNgQ"/>
          <p:cNvPicPr/>
          <p:nvPr/>
        </p:nvPicPr>
        <p:blipFill>
          <a:blip r:embed="rId1"/>
          <a:stretch/>
        </p:blipFill>
        <p:spPr>
          <a:xfrm>
            <a:off x="3505320" y="3948120"/>
            <a:ext cx="4371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pe Controvers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ly 1973- former presidential aide reports presence of bugging equipment in White Ho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talled under Nixon’s author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versations recorded w/o notifying other par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xon had denied prior  knowledge of Watergate burglary &amp; involvement in cover-u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used to hand over tapes (confidentiality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pe Controvers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P Agnew forced to resign in Oct. 1973 for taking bribes from Maryland contracto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mendment invoked to replace Agnew w/ Gerald Ford (Michigan congressman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turday Night Massacre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ubpoena issued for relevant tapes &amp; other documents from White Hou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ixon orders “special prosecutor” Archibald Cox to be fir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torney General &amp; Deputy Attorney General re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5" descr="oct21_73"/>
          <p:cNvPicPr/>
          <p:nvPr/>
        </p:nvPicPr>
        <p:blipFill>
          <a:blip r:embed="rId1"/>
          <a:stretch/>
        </p:blipFill>
        <p:spPr>
          <a:xfrm>
            <a:off x="7719840" y="4800600"/>
            <a:ext cx="1424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making of a Preside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ending impeach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xon agrees to turn over “relevant” portions of the tap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 of material demanded, Nixon refu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reme Court rules that Nixon cannot withhold portions of tapes relevant to criminal activ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xon reluctantly compl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xon abused powers of presid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5" descr="office bugs"/>
          <p:cNvPicPr/>
          <p:nvPr/>
        </p:nvPicPr>
        <p:blipFill>
          <a:blip r:embed="rId1"/>
          <a:stretch/>
        </p:blipFill>
        <p:spPr>
          <a:xfrm>
            <a:off x="304920" y="914400"/>
            <a:ext cx="8607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making of a Presid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idence of Nixon giving orders 6 days after Watergate break-in to use CIA to hold back inquiry by FB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victs him of being active part of cover-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d told Americans he knew nothing of Watergate cover-up until 9 mos. Af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backla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ixon Resig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ugust 8, 197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ounces resignation on T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made it clear that Nixon would be impeach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st option is to resign w/ hon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5" descr="polls_OoGMYnQcWn_i_am_not_a_crook_1_2351_693_poll_xlarge"/>
          <p:cNvPicPr/>
          <p:nvPr/>
        </p:nvPicPr>
        <p:blipFill>
          <a:blip r:embed="rId1"/>
          <a:stretch/>
        </p:blipFill>
        <p:spPr>
          <a:xfrm>
            <a:off x="0" y="4610160"/>
            <a:ext cx="3333600" cy="2247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NixonResignsNYT488"/>
          <p:cNvPicPr/>
          <p:nvPr/>
        </p:nvPicPr>
        <p:blipFill>
          <a:blip r:embed="rId2"/>
          <a:stretch/>
        </p:blipFill>
        <p:spPr>
          <a:xfrm>
            <a:off x="3352680" y="4389480"/>
            <a:ext cx="3124440" cy="2468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ANd9GcQzxnADA-MgU4BN-SZbskz5uJLAAQ6a4b7x3Z9g9TaMbIhHZve8"/>
          <p:cNvPicPr/>
          <p:nvPr/>
        </p:nvPicPr>
        <p:blipFill>
          <a:blip r:embed="rId3"/>
          <a:stretch/>
        </p:blipFill>
        <p:spPr>
          <a:xfrm>
            <a:off x="6477120" y="4849920"/>
            <a:ext cx="26668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gnatio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lump in producti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ing presence of women &amp; teenagers in work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etnam War drained tax dollars from needed areas (education)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f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BJ had insisted on fighting in Vietnam &amp; funding Great Society at home w/o raising tax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s r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ANd9GcTvNpeoYMksZsSrPKpQqE7gHDBEXWRch2ZIMs8Rrk_w0kb-NoHB"/>
          <p:cNvPicPr/>
          <p:nvPr/>
        </p:nvPicPr>
        <p:blipFill>
          <a:blip r:embed="rId1"/>
          <a:stretch/>
        </p:blipFill>
        <p:spPr>
          <a:xfrm>
            <a:off x="155520" y="46080"/>
            <a:ext cx="27813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5" descr="PWU7ques4-5"/>
          <p:cNvPicPr/>
          <p:nvPr/>
        </p:nvPicPr>
        <p:blipFill>
          <a:blip r:embed="rId1"/>
          <a:stretch/>
        </p:blipFill>
        <p:spPr>
          <a:xfrm>
            <a:off x="685800" y="1905120"/>
            <a:ext cx="780084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rab Oil Embarg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tober 197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ab nations clamped oil embargo on oil for US &amp; other nations supporting Isra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ericans rationed ga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ergy crisi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C raises price of oil after embargo is lift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gas-lines-during-the-1973-oil-embargo"/>
          <p:cNvPicPr/>
          <p:nvPr/>
        </p:nvPicPr>
        <p:blipFill>
          <a:blip r:embed="rId1"/>
          <a:stretch/>
        </p:blipFill>
        <p:spPr>
          <a:xfrm>
            <a:off x="2438280" y="4954680"/>
            <a:ext cx="2124360" cy="1903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oil-crisis_qjpreviewth"/>
          <p:cNvPicPr/>
          <p:nvPr/>
        </p:nvPicPr>
        <p:blipFill>
          <a:blip r:embed="rId2"/>
          <a:stretch/>
        </p:blipFill>
        <p:spPr>
          <a:xfrm>
            <a:off x="4724280" y="4876920"/>
            <a:ext cx="1800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rst Unelected Preside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rald Ford- first man to be made president solely by vote of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d grants Nixon a pardon for any crimes he may have committed as presid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mocrats outrag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nted to end Nixon’s private ago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elsinki Accords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mprove relations between USSR &amp; W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gitimized USSR- dictated boundaries of Poland &amp; other E. European countri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tected certain basic human righ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5" descr="220px-Gerald_Ford"/>
          <p:cNvPicPr/>
          <p:nvPr/>
        </p:nvPicPr>
        <p:blipFill>
          <a:blip r:embed="rId1"/>
          <a:stretch/>
        </p:blipFill>
        <p:spPr>
          <a:xfrm>
            <a:off x="228600" y="0"/>
            <a:ext cx="1089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eminist Victories &amp; Defea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itle IX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hibited sex discrimination in any federally assisted educational progra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ed opportunities for girls athletics at schools &amp; colleg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qual Rights Amendment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ERA) equal rights under law should not be denied on account of s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adopted (1982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hyllis Schlafy-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led campaign to stop E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72- Nixon strikes down proposal to set up nationwide public day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5" descr="schlafly2"/>
          <p:cNvPicPr/>
          <p:nvPr/>
        </p:nvPicPr>
        <p:blipFill>
          <a:blip r:embed="rId1"/>
          <a:stretch/>
        </p:blipFill>
        <p:spPr>
          <a:xfrm>
            <a:off x="7139160" y="4191120"/>
            <a:ext cx="2004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ce Issues in the 1970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ce remained explosive iss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illiken v. Bradley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segregation plans could not require students to move across school-district li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De jure segreg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imposed by law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De facto segregatio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resulting from economic or social condition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gregation allowed if not considered explicit policy of school distric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blems w/ affirmative ac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kke Case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reference in admissions could not be given to members of any group on basis of 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ection of 1976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ublican: Gerald Fo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crat: Jimmy Car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orgia Peanut farm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n against memory of Nixon &amp; Waterg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’ll Never Lie to You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gainst big governm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ter wins elec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cratic majorities in House &amp; Sen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ter proposed tax refor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5" descr="220px-JimmyCarterPortrait2"/>
          <p:cNvPicPr/>
          <p:nvPr/>
        </p:nvPicPr>
        <p:blipFill>
          <a:blip r:embed="rId1"/>
          <a:stretch/>
        </p:blipFill>
        <p:spPr>
          <a:xfrm>
            <a:off x="6491160" y="1447920"/>
            <a:ext cx="265284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5" descr="800px-ElectoralCollege1976-Large_Corrected"/>
          <p:cNvPicPr/>
          <p:nvPr/>
        </p:nvPicPr>
        <p:blipFill>
          <a:blip r:embed="rId1"/>
          <a:stretch/>
        </p:blipFill>
        <p:spPr>
          <a:xfrm>
            <a:off x="152280" y="457200"/>
            <a:ext cx="88362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mp David Acco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immy Carter- humanitarian concer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mp David Accords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eptember 197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ident Anwar Sadat of Egypt &amp; Prime Minister Manachem Beg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ter persuaded them to sign an accord that held considerable promise of pe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rael to withdraw from territory conquered in 1967 w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ypt to respect Israel’s bor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5" descr="78620-004-AE3D4BEA"/>
          <p:cNvPicPr/>
          <p:nvPr/>
        </p:nvPicPr>
        <p:blipFill>
          <a:blip r:embed="rId1"/>
          <a:stretch/>
        </p:blipFill>
        <p:spPr>
          <a:xfrm>
            <a:off x="304920" y="0"/>
            <a:ext cx="83026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conomic and Energy Wo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s rising, inflation ris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il prices also steadily ris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e rate”- rate of interest that banks charged their best customers- rose to 2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pendence on foreign oi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ter called for legislation to improve energy conserv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reme Cour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ef Justice Earl Warren had been appointed in 195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rren Court- decisions that affected sexual freedom, criminal rights &amp; civil righ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ep concern for the individu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xon lashed out at the permissiveness &amp; judicial activ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File:Earl Warren.jpg"/>
          <p:cNvPicPr/>
          <p:nvPr/>
        </p:nvPicPr>
        <p:blipFill>
          <a:blip r:embed="rId1"/>
          <a:stretch/>
        </p:blipFill>
        <p:spPr>
          <a:xfrm>
            <a:off x="3830760" y="4648320"/>
            <a:ext cx="1771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ra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nuary 1979- Mohammed Reza Pahlevi’s repressive regime is overthrow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slim fundamentalists resented shah’s campaign to westernize Ir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=Great Sat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C seizes opportunity to raise oil pr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read to Iran’s oil field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il cris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eign Affai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viet leader= Brezhne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ter meets w/ Brezhnev to sign SALT II- limiting lethal strategic weapons in USSR &amp; U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 ratified- conservative critics, suspicious of USS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ran Hostage Cri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Nov. 4, 197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ti-American Muslim militants stormed US embassy in Tehran, took all occupants host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manded that US send shah back to Iran (in US for medical treatmen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ranian government refuses to intervene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yatollah Khomeini accused US of designing an attack on Mec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eign Affai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SR invaded Afghanistan, 197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ter places embargo on goods to USS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ounced boycott of 1980 Moscow Summer Olympic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ims that US will use any means necessary to protect Persian Gulf against Soviet inva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eign Affai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ran Hostage Crisis contin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ter eventually orders daring rescue mi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ined commando team faced equipment failur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ssion had to be scrapp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ring withdrawal, 2 aircrafts collided &amp; killed 8 of would-be rescu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ilure anguishing for America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lemate w/ Iran continues throughout Carter’s presid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reme Cour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Griswold v. Connecticut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truck down state law that prohibited use of contraceptives (196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Gideon v. Wainwright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ll defendants in criminal cases entitled to legal counsel (196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irand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right of accused to remain silent &amp; enjoy other protections when accused of a crime (196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New York Times v. Sullivan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figures could sue for libel only if they could prove malice had motivated their defa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reme Cour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gel v. Vitale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oted against required prayers &amp; Bible readings in public schoo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therners were angered by Supreme Court support of blacks in civil rights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xon sought to appoint justices who would strictly interpret constit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conservative Nixon appointme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oe v. Wa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5" descr="c2cb4_120628054349-president-nixon-vertical-gallery"/>
          <p:cNvPicPr/>
          <p:nvPr/>
        </p:nvPicPr>
        <p:blipFill>
          <a:blip r:embed="rId1"/>
          <a:stretch/>
        </p:blipFill>
        <p:spPr>
          <a:xfrm>
            <a:off x="7201080" y="4267080"/>
            <a:ext cx="194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ixon on Home Fro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xon surprisingly presided over expansion of welfare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od Stamps, Medicaid, Social Security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ansion of Great Society helped reduce nation’s poverty 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hiladelphia Plan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required construction trade unions to establish goals for hiring black apprent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tended to all federal contra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quired thousands of employers to meet hiring quot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ixon on Home Fro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firmative Action- transformed to give privileges to certain groups, as opposed to individual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ly sure protection against charges of discrimination is to hire minority work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itics: “reverse discrimination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vironmental Protection Agency created, 197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lent Spring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ritten by Rachel Cars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posed poisonous effects of pesticid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d to environmentalist movem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ixon on the Home Fro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sed 90 day wage &amp; price freeze, 197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ok US off the gold stand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alued the doll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ded “Bretton Woods” system of international currency stabilization that had functioned since WWI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xon used “southern strategy” to develop a majority in 197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ection of 197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etnam was biggest issu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ixon had promised to end war &amp; win peac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ghting had escalated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mocrat: George McGover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omised to pull troops out of Vietnam w/in 90 day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P candidate Thomas Eagleton revealed he had undergone psychiatric care- doomed McGovern’s candidac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publican: Richard Nix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phasized he had decreased troop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issinger announced that “peace is at hand” in Vietnam 12 days before election &amp; agreement would be made in a few day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ixon wins election by a landsl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l states but Massachusett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0:41:12Z</dcterms:created>
  <dc:creator>emily.johnson</dc:creator>
  <dc:description/>
  <dc:language>en-US</dc:language>
  <cp:lastModifiedBy>emily.johnson</cp:lastModifiedBy>
  <cp:lastPrinted>2013-04-19T01:18:08Z</cp:lastPrinted>
  <dcterms:modified xsi:type="dcterms:W3CDTF">2013-04-19T13:05:23Z</dcterms:modified>
  <cp:revision>9</cp:revision>
  <dc:subject/>
  <dc:title>Chapter 40: The Stalemated Seventies</dc:title>
</cp:coreProperties>
</file>